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12E-61F4-4601-833D-798B35C6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098-04C6-44AD-9257-23753707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ED9-723D-4410-8C08-06C29E96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4BF-FFC1-450C-8BDD-142D70F8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D44-8B9B-455A-B85D-34102962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A4F-AEB3-41AE-B90E-4C23D24A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05B-305C-48A3-8151-23023AA2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877-9774-4577-8E29-75BA446E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BE8-4996-410A-AC43-1176B86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F37-4F15-4C50-9617-3B017DF1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41C-C898-4E8E-BF07-CD032C8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0E7-EA44-4BEC-BDAD-A975904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F046C-B150-4A24-9AB4-1A4B60DC5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your planet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48:50Z</dcterms:created>
  <dc:creator/>
  <dc:description/>
  <dc:language>en-US</dc:language>
  <cp:lastModifiedBy/>
  <cp:revision>1</cp:revision>
  <dc:subject/>
  <dc:title/>
</cp:coreProperties>
</file>